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96E-4025-4694-B75F-35CEB614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569-BFD6-48C9-9101-BB5FD66F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721-1168-41F2-BB0D-3819C486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18C-4810-40B2-8A78-4B890A9A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2828-D4C3-4C07-B435-E0BA56AA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5AD6-584B-418F-AFDA-E4D6FE22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9633-6BAE-4FE6-9946-818F56D7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28D1-D6F7-4E39-89EC-0BBCDE36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13EC-D698-470C-978B-1D53D1E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9CC5-01BB-4E10-96C3-02558BB1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48D3-B94C-406E-88B7-30D1BEA3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DA0-F26C-4D4F-A577-7D4819F8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0E4F-0F2C-4813-8461-BDBCD56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6915-69E2-4042-AD71-4001AE52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464F-AF00-4DE1-9BF6-530DD91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A333-5521-4078-B4FB-8F814D05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1D3E-F194-480D-BD0B-38BE4E5B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A76-3B12-4E46-A0E6-1E1E07CB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D6C-C2DB-4640-9FC8-F18F9A0C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D00-8878-4F06-9029-6244CEFA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E2E-EC67-41C7-821E-C1EECA68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D20-CF45-4CA9-98E4-F94ABD8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F74-EA52-4D85-A2B6-F534D69E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9B0-335D-45E0-844A-CDA1609E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FFBA-322A-403C-AC23-A09313284E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A0A-834E-4FE3-8F6F-DBA7889E10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ife.uiuc.edu/bio100/lessons/cells_and_organelles.html" TargetMode="External"/><Relationship Id="rId2" Type="http://schemas.openxmlformats.org/officeDocument/2006/relationships/hyperlink" Target="http://kauai.cudenver.edu:3010/0/nutrition.dir/organelle.html" TargetMode="External"/><Relationship Id="rId3" Type="http://schemas.openxmlformats.org/officeDocument/2006/relationships/hyperlink" Target="http://esg-www.mit.edu:8001/esgbio/cb/organelles.html" TargetMode="External"/><Relationship Id="rId4" Type="http://schemas.openxmlformats.org/officeDocument/2006/relationships/hyperlink" Target="http://iip.ucsd.edu/Step/projects95/cellular.Organelles/WHY.HTM" TargetMode="External"/><Relationship Id="rId5" Type="http://schemas.openxmlformats.org/officeDocument/2006/relationships/hyperlink" Target="http://iip.ucsd.edu/Step/projects95/cellular.Organelles/CELLS.HTM" TargetMode="External"/><Relationship Id="rId6" Type="http://schemas.openxmlformats.org/officeDocument/2006/relationships/hyperlink" Target="http://www-class.unl.edu/bios201/group6/cytoskel.html" TargetMode="External"/><Relationship Id="rId7" Type="http://schemas.openxmlformats.org/officeDocument/2006/relationships/hyperlink" Target="http://www.bio.mtu.edu/campbell/eukaryot.htm" TargetMode="External"/><Relationship Id="rId8" Type="http://schemas.openxmlformats.org/officeDocument/2006/relationships/hyperlink" Target="http://www-class.unl.edu/bios201/group6/nucleus.html" TargetMode="External"/><Relationship Id="rId9" Type="http://schemas.openxmlformats.org/officeDocument/2006/relationships/hyperlink" Target="http://www-class.unl.edu/bios201/group6/lyso.html" TargetMode="External"/><Relationship Id="rId10" Type="http://schemas.openxmlformats.org/officeDocument/2006/relationships/hyperlink" Target="http://www-class.unl.edu/bios201/group6/er.html" TargetMode="External"/><Relationship Id="rId11" Type="http://schemas.openxmlformats.org/officeDocument/2006/relationships/hyperlink" Target="http://lenti.med.umn.edu/%7Emwd/back/cell_www/chapter2/ER.html" TargetMode="External"/><Relationship Id="rId12" Type="http://schemas.openxmlformats.org/officeDocument/2006/relationships/hyperlink" Target="http://www-class.unl.edu/bios201/group6/golgi.html" TargetMode="External"/><Relationship Id="rId13" Type="http://schemas.openxmlformats.org/officeDocument/2006/relationships/hyperlink" Target="http://www-class.unl.edu/bios201/group6/centrio.html" TargetMode="External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Comic Sans MS"/>
              </a:rPr>
              <a:t>The World of Cel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6389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coln Rob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Sample - EDU 2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. The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27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ythrocyte (red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ukocyte (white blood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mbocyte (platelet ce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blood cells are created in bon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m cells divide in the m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ite Blood Cel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Leucocy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utrophils 40 - 7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ymphocytes 20 - 5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osinophils 5 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ocytes 1 - 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ophils 0.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581280" cy="258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410080" y="4572000"/>
            <a:ext cx="26672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Make up a large part of the immune defens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ct in response to antigenic stimul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Are found in the bloodstream, lymphatic tissues and organs of the lymphatic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Consist of B and T cells, NK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cells initiate Humoral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thesize and secrete antibo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ill off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 cells initiate Cell-mediated i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rete cytok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lytic T cells automatically kill infecte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616640" cy="267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" y="17524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ural Kill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antigen rece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gulate the production of blood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ll B cell lymphocytes have a specific receptor for specific antige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BCR is the unique protein that helps activate B cells, creates the specific binding sites, and allows B cells to recognize other lymphocyt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Helps neutralize the microb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Activates phagocy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Macrophages are antigen presenting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resent antigens to B and T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-Two main types of B 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mory ce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ormed from activated B cel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onger life, ready to respond to repeated exposure to a particular antig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lasma cel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Larger B cells that secrete large amounts of antibo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ntibodies bind to microbes making them easier for phagocytes to attack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B Lymphocytes cont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B cells can encounter the antigen when it is soluble (lymph or blood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Naive B cells are throughout the body at all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Secreting low levels of anti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ed by 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Many antigens are T-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Require the combination of B and T cells for “co-stim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Activation of the highest level of antibody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9200" y="5638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ellsalive.com/antibod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cal game-plan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initially testing shows three large tumors pres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Each tumor is located within the lymphatic system, specifically on the lymph no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Results from the blood work showed a decrease in the level of white blood cells, which is usual. The tests showed that the patients platelet level is way d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recommend an immediate platelet transfusion, and to keep a close watch on the status of white blood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These initial results are leading me to believe you will require stem cell transplant from a matching donor after you undergo radiation and chemotherapy to control the growth of present tum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I am going to create an official report and have all this report reviewed by our medical staff for second opinions. I will also make sure all Doctor’s have received a copy of  the results from your blood work and CAT s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Referenc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cker, Kleinsmith, Harden. (2000).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 world of the ce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New York: Addison Wesley Longman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od: The river of life. 2001 July. Retrieved April 30, 2007 from the world wide web: http://library.thinkquest.org/C0115080/?c=w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cellsalive.com/cell_cyc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Cell Theory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"/>
              </a:rPr>
              <a:t>In 1824, Rene Dutrochet discovered that "the cell is the fundamental element in the structure of living bodies, forming both animals and plants through juxtaposition.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. all known living things are made up of c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. the cell is structural &amp; functional unit of all living thing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. all cells come from pre-existing cells by divis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 (Spontaneous Generation does not occur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. cells contains hereditary information which is passed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cell to cell during cell divi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. All cells are basically the same in chemical composit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. all energy flow (metabolism &amp; biochemistry) of life occur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             within cell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ELL IS THE BASIC UNIT OF LIF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ellsalive.com/cell_cycl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Prokaryotes vs. Eukaryo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91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uclear membrane (genetic material dispersed throughout cytoplas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primitive type of cell (appeared about four billion years ag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67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ukaryo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 surrounding genetic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ous membrane-bound organ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internal 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eared approximately one billion years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011320" cy="1676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90920" y="4994280"/>
            <a:ext cx="17524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Comic Sans MS"/>
              </a:rPr>
              <a:t>Intracellular Organell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rrounds nucle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two lay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Numerous openings for nuclear traff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ol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pherical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Visible when cell is not divi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RNA for protein manufacture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rom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Usually in the form of chromat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genetic inform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D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Thicken for cellular di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t number per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.e. 23 pairs for human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2920" y="5105520"/>
            <a:ext cx="12762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ysoso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Digestive 'plant' for proteins, lipids, and carbohyd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ransports undigested material to cell membrane for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Vary in shape depending on process being carri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ell breaks down if lysosome explode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loroplast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lastid usual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 green chlorophyll where photosynthesis takes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cuo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embrane-bound sacs for storage, digestion, and waste remo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water solu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actile vacuoles for water removal (in unicellular organis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20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ooth and Rough Endoplasmic Reticulu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Tubular network fused to nuclear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Goes through cytoplasm onto cell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ores, separates, and serves as cell's transport syste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mooth type: lacks rib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ough type (pictured): ribosomes embedded in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bos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ach cell contains thousan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iniature 'protein factories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s 25% of cell's ma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tationary type: embedded in rough endoplasmic reticulu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bile type: injects proteins directly into cytoplas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ytoskelet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microtubu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upports cell and provides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Aids movement of materials in and out of ce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19920" y="1695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67600" y="51246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65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05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ytopla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tochondr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Second largest organelle with unique genetic structu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Double-layered outer membrane with inner folds called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nergy-producing chemical reactions take place on crista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level of water and other materials in cel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Recycles and decomposes proteins, fats, and carbohydrates, and forms 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ntrioles (animal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ired cylindrical organelles near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mposed of nine tubes, each with three tub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Involved in cellular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Lie at right angles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Intracellular Organelles Cont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943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 Surf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Wall (plant cells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ost commonly found in plant cel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rols turg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Extracellular structure surrounding plasma membra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imary cell wall: extremely elast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econdary cell wall: forms around primary cell wall after growth is comp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Membra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Outer membrane of cell that controls cellular traff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Contains proteins (left, gray) that span through the membrane and allow passage of material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Proteins are surrounded by a phospholipid bi-lay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cellsalive.com/cells/3dcell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3244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Comic Sans MS"/>
              </a:rPr>
              <a:t>Intracellular Organell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s to other resourc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nd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fe.uiuc.edu/bio100/lessons/cells_and_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sides of Cell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kauai.cudenver.edu:3010/0/nutrition.dir/organelle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ctures and Function of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esg-www.mit.edu:8001/esgbio/cb/organelle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There Organelles?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iip.ucsd.edu/Step/projects95/cellular.Organelles/WHY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Organel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iip.ucsd.edu/Step/projects95/cellular.Organelles/CELLS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crofilaments and Microtubules--The Cytoskeleton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http://www-class.unl.edu/bios201/group6/cytoskel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karyotic Cell Membrane or Plasma Membrane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http://www.bio.mtu.edu/campbell/eukaryot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ucleus, Nucleolus, Nuclear Envelope, and everything you ever wanted to know about DNA (but were afraid to ask)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http://www-class.unl.edu/bios201/group6/nucleus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sosom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http://www-class.unl.edu/bios201/group6/lys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ough and Smooth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http://www-class.unl.edu/bios201/group6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Endoplasmic Reticulum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http://lenti.med.umn.edu/~mwd/back/cell_www/chapter2/ER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olgi Bodi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http://www-class.unl.edu/bios201/group6/golgi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br>
              <a:rPr sz="1200"/>
            </a:br>
            <a:r>
              <a:rPr b="1" lang="en-US" sz="12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http://www-class.unl.edu/bios201/group6/centrio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class.unl.edu/bios201/group6/mitocho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8:08Z</dcterms:created>
  <dc:creator>Lincoln</dc:creator>
  <dc:description/>
  <dc:language>en-US</dc:language>
  <cp:lastModifiedBy>Lincoln</cp:lastModifiedBy>
  <dcterms:modified xsi:type="dcterms:W3CDTF">2008-03-31T16:28:15Z</dcterms:modified>
  <cp:revision>57</cp:revision>
  <dc:subject/>
  <dc:title>The World of Cells</dc:title>
</cp:coreProperties>
</file>